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D6C6-0CEF-4C12-B401-8BEF94017E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C113-497E-46CA-BC69-7423679CA3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5543-5E29-4286-A936-2F112E841A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645D-E8D3-4669-BBA3-87EDABE143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9DD5-C30B-4E08-9D39-E5CC8DDA5E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F007-78DD-40DC-B5C5-4991CA2FF7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8813-FE80-4D91-A14A-4F4A6C50C4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E55A-BEC3-4AC6-BA0D-5FC8085EC4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8A89-119B-477B-80DD-AD5E1A929F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D278-0BF1-4B3D-9655-14C06C08FE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BA6D-D4DF-499F-8CDB-80FF588C92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87ED-C42E-4091-BBDE-D9DD2C7F62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938B-6A62-4A62-8F9A-7D2D18C0F2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C251-97FF-4454-AC99-F6FCB18914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BE1E-B1C9-41CB-B709-E17968AE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8FC3-05AB-4532-AAB0-84A01AC3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F7AF5-4867-41A3-80F2-C39076B4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97D6A-D255-4DE5-8DC3-B98B6F47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676E0-4856-42AE-9C90-7BA5D639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C1261-502B-4933-89AE-7577DE33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EC031-0D97-4B0E-8A15-B3359A86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09C79-F50A-44E9-89BA-30AB8D9C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5F482-00AE-4EF1-ABCC-B7BB69B8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57F3E-6C34-43D9-BB12-2229C7BC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976F2-732F-437B-B6BE-083684A4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55BBE-3925-4A19-802C-770BE736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8FC8-BD7F-43EA-B042-F584BF5C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F13DF-418D-408F-BDCA-D55A89E5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04D0C-E7C8-42A2-8EB1-C45A33CB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2EA6C-B164-4313-B1E9-8082DEDE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43C6A-5501-4F90-9CE9-2703B446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BAFE9-8A24-49D5-9D3C-C98C0F8F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FE17B-F28D-4934-BEC5-B7D1B2E3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24686-F057-4713-A2F0-54A17A74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0A7D1-8BD2-45B9-A16F-6E7A3C63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2E91B-D6A3-407C-8B70-FED76418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4B306-6C00-4D2C-8EAC-F56DAD7B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139-F9C1-45E1-9A94-DF9D1792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CAD57-21E5-4453-A5C8-30F948E2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1FD57-3417-4E2D-B6F9-44D5625C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65103-62B2-4782-BBA7-AB74BE88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61093-65CF-4F66-BE85-738E548A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69590-C533-4560-90AA-676B2C1A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ED79A-EBC7-463F-BAA6-33FF2F0A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D0E7F-989F-4B02-B1FD-60514237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1EFE3-2972-4327-83FD-5B0932C7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F5709-8F5E-4540-A634-4A9AC3E7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76B64-0625-4C1F-A11E-3676B338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C89A-447F-4EAD-B80E-FC90E63E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CDA39-76D1-4D8A-A2E8-3EB54615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AC811-36CB-4562-9845-21573F32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D8207-4A78-4673-A9C8-1C7A0097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B7D6F-2DD6-4FC8-A148-424F16A1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E776C-9E9B-432F-B391-DF59DC01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962CD-577D-40E7-A258-C323CDDF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BE920-9F4C-4B54-B022-842DFBAB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441E3-C33D-45B6-AC5A-E63A16AB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08B2A-DF2F-4719-BA92-AD6812F6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F3B47-A0F5-4675-86D4-F8311E39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F7B8-FF69-4DC2-BBCB-13D5799C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6FA1A-661E-460E-9C69-48B43CB3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1D44D-7A3E-4426-A7E9-73CB4BCC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3BEB3-4C60-42D3-B63B-6015714C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F7615-AE3D-4E6C-A5A6-A8CFF0B2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E7AA4-6BA9-4F24-A3F7-D8A1FC86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3C48-3D45-45EE-9FBD-173A8881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1A3A-9022-41EC-ABDE-567F41A5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DD1A-D49C-460E-B0ED-F5EFFE06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0836-30DD-4ACF-AD49-5C577F03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67E6-2A60-404D-92ED-433757C3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C3FF-722C-4A72-9856-CF695D04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7E15-D1B1-4A4F-86B5-0DC4FE6A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AB46-9812-4C54-B1E8-D5510C3C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C5C6-1B32-4CFA-9B32-4EC418B9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96A6-761F-436E-B12C-061952C7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6BED-A0EB-4FBE-B12C-B03AA451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806A6-D087-43D5-A29F-DD3743852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169F8-E63B-497F-BBF8-4C47989E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6A677-0408-40B7-81DC-F69EE865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287BE-FDF5-4283-9D86-66936A49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577C1-1611-47B8-A678-45F3A84A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49D8-7325-455F-84BF-037EADD9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325B9-7BD3-41AB-880C-0F5ADA2D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ABF2D-874C-4FE3-B243-452C2964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EB62C-F057-4734-9816-0CF724A0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36AA6-A563-4C7E-9E85-BB7A6EE7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C417B-2A51-4DC7-BE21-0021F36B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CE139-5A9D-45BB-8AD6-867FBA4E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4CBB0-4FCE-4475-A623-A3EDC807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95FD7-62DF-4B17-8965-00C6FAD0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2C46F-75CA-441F-99FF-54A9F450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673D9-D5EF-4D52-8C66-98891DD0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908D-49AD-4243-8ECE-4BBF4233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E7203-BFD4-4C67-B200-5163B88B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96CA6-4F99-4197-A5CD-D2A3683E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C7922-DB1B-4948-9F37-40BC275D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FD54E-C292-4DAC-BC77-88368FF4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993CD-6FAA-4C41-A35B-2F555659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4187A-4A34-43A9-975C-ED0C2C2E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674A1-0C1B-4A53-BC51-E0C57D77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1480D-0A90-4951-A433-C489742F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088F7-E383-465C-AD21-D0C7D5A2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F6B12-DD35-4B09-95CD-F7C878C2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C59F-30C6-4F58-A00D-5B3D362D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D4986-C008-4BA5-A64B-4D542FDB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1BAB4-D783-493B-9A4C-FE0AEA45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FA63A-86BD-4402-A4F8-58DB0447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B57CB-CB89-44C2-9566-A017C7D1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9FFA8-8D3E-40CF-B785-B3A81B5F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4FDB7-99EC-4A18-9519-390668D8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76946-ED9D-4B9C-A6DB-DFD71683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D6EF9-4700-4009-96FB-018ED650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D8C02-A995-4B4C-B72B-0BECA1D4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BBCBE-604A-44DD-ABAF-7630DA87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1F2B-7642-4180-BE6F-A1E379AB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A6BDC-301E-423C-97E8-1334BF41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69A91-A74F-482E-8A4A-E0B7F6D1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EED88-1B4F-4199-B2B1-485A9C87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6D3A0-AAE0-4C43-B6DC-D7CE02C9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C36E0-80B4-4A24-A55A-6BFBF65A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58C20-ADF9-4404-9B73-57F19D02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692CF-1E44-4A41-B9E6-3FD7DC54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A1392-3C85-44BB-9222-9AC959F7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D5038-DAE9-4226-A643-7944BE0A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0D654-0630-41E5-ADC2-223CFE34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4132-8FC0-4E60-9616-D28090E1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05EEB-A1FE-4786-AF74-92516F74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64708-EC7C-4113-B0C8-0192E0FC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82EA0-1208-4884-8787-55A02DC7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B28FA-BAF4-44DC-B4B7-EC22A4FB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54434-6687-4984-AD0B-732405F4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33270-E9DE-49DA-912D-77AAA7DC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52968-9ADC-4160-B4D5-CFE8DCBF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664C2-5DC6-4F30-BBF4-6043D86E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0D948-C682-4D25-81BE-E30B3BC4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04350-E3B4-4CCB-85AA-40C053A6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4AC2-8FB0-4324-B9C8-CEA26A77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C6D56-A906-49F1-91FB-982AA204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3A988-AFAA-42E5-A9D1-292F9844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D71ED-0A49-44F9-9D5C-DD5AE11E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D2C5F-CDF4-4DCD-B8CD-1CC271AB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BCB3B-CB74-4962-B8F9-A4DA925C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65A9C-BFDD-4D87-BCEB-4C67753F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F041C-9F5B-4CDC-8F3E-90BC5730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B0D68-FAD4-4295-A622-B56B336C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FAA87-91B0-4A04-ACFA-50A5E841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80FE1-77E4-4E05-A5A9-AE68F330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4A86-11D5-40EE-967E-2217D339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4664A-3AF2-4359-9197-0D1BF104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4D7A1-5C26-48EC-93C1-B0B10716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4B362-2F46-41BB-B667-E41C34EF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6AC44-725A-43BA-8A4E-ADE26D8C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F4EAB-2B60-43CF-BDA6-C521E0C4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4C792-1A3E-4286-B14B-201C316F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78B2A-4FBA-466D-8CF3-53B7F208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50DEA-9D4D-4D54-AA1F-2EFAE07E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2303A-BB58-44B8-B8FE-DA1C17CF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FD382-B928-4AEA-A3D8-C92183DB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4ede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C23C-A020-4B07-8649-C24B0FFF005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4ede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88" name="Прямоугольный треугольник 16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0" name="Прямая соединительная линия 18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1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0b6b9"/>
              </a:gs>
              <a:gs pos="100000">
                <a:srgbClr val="c9ecef"/>
              </a:gs>
            </a:gsLst>
            <a:lin ang="16200000"/>
          </a:gradFill>
          <a:ln cap="rnd" w="3240">
            <a:solidFill>
              <a:srgbClr val="89a4a7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0b6b9"/>
              </a:gs>
              <a:gs pos="100000">
                <a:srgbClr val="c9ecef"/>
              </a:gs>
            </a:gsLst>
            <a:lin ang="16200000"/>
          </a:gradFill>
          <a:ln cap="rnd" w="3240">
            <a:solidFill>
              <a:srgbClr val="89a4a7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0808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808080"/>
              </a:solidFill>
              <a:latin typeface="Lucida Sans Unico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5050-FEE2-4780-8319-642FDFFCB38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82E3-C5B6-40B1-8636-D8A42947B42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DB42-CC77-4B73-8C7F-3033878EC8F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6b9397"/>
              </a:gs>
              <a:gs pos="50000">
                <a:srgbClr val="bbebef"/>
              </a:gs>
              <a:gs pos="100000">
                <a:srgbClr val="6b93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4ede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DCB4-74D6-4D84-B7FA-8C286195EEE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EFCC-CE07-4492-B60A-CBA4132510D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0b6b9"/>
              </a:gs>
              <a:gs pos="100000">
                <a:srgbClr val="c9ecef"/>
              </a:gs>
            </a:gsLst>
            <a:lin ang="16200000"/>
          </a:gradFill>
          <a:ln cap="rnd" w="3240">
            <a:solidFill>
              <a:srgbClr val="89a4a7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0b6b9"/>
              </a:gs>
              <a:gs pos="100000">
                <a:srgbClr val="c9ecef"/>
              </a:gs>
            </a:gsLst>
            <a:lin ang="16200000"/>
          </a:gradFill>
          <a:ln cap="rnd" w="3240">
            <a:solidFill>
              <a:srgbClr val="89a4a7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0808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808080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AFC2-149E-4643-852F-C012291E350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0808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80808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6A16-B237-4063-A806-43E54FA7745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0EB5-5D11-46BC-BB32-2F129147958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0808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808080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4FD6-01E2-4EF6-A50A-92E405109B1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D2FA-9929-4F6F-B273-AEB66B3EDFC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E7C4-945C-44D1-B86C-2C03F33DF6A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4"/>
          <p:cNvSpPr/>
          <p:nvPr/>
        </p:nvSpPr>
        <p:spPr>
          <a:xfrm>
            <a:off x="287280" y="1619280"/>
            <a:ext cx="514836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кол зазвучал  монотонно  и 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(ЖЕ)  время трев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5"/>
          <p:cNvSpPr/>
          <p:nvPr/>
        </p:nvSpPr>
        <p:spPr>
          <a:xfrm>
            <a:off x="287280" y="2879640"/>
            <a:ext cx="5148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меня попросил,  ЧТО(БЫ)   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ёл пора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6"/>
          <p:cNvSpPr/>
          <p:nvPr/>
        </p:nvSpPr>
        <p:spPr>
          <a:xfrm>
            <a:off x="287280" y="4140360"/>
            <a:ext cx="514836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ибаясь ТАК(ЖЕ), как это дела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 матросы, мы побежали к  р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7"/>
          <p:cNvSpPr/>
          <p:nvPr/>
        </p:nvSpPr>
        <p:spPr>
          <a:xfrm>
            <a:off x="287280" y="5400720"/>
            <a:ext cx="5148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кном всё  ТАК(ЖЕ) неисто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ясала метель, выл вет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utoShape 4"/>
          <p:cNvSpPr/>
          <p:nvPr/>
        </p:nvSpPr>
        <p:spPr>
          <a:xfrm>
            <a:off x="287280" y="1619280"/>
            <a:ext cx="507528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 ТАК(ЖЕ) мягко опускался 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а на землю крупный сне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287280" y="2879640"/>
            <a:ext cx="50752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ь вскоре прекратился,  вет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(ЖЕ) зат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6"/>
          <p:cNvSpPr/>
          <p:nvPr/>
        </p:nvSpPr>
        <p:spPr>
          <a:xfrm>
            <a:off x="287280" y="4140360"/>
            <a:ext cx="507528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осмотреть холмы,  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ли по  долине  пеш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7"/>
          <p:cNvSpPr/>
          <p:nvPr/>
        </p:nvSpPr>
        <p:spPr>
          <a:xfrm>
            <a:off x="287280" y="5400720"/>
            <a:ext cx="50752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мнату едва проникал св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(ТО) за ставнями было зной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AutoShape 4"/>
          <p:cNvSpPr/>
          <p:nvPr/>
        </p:nvSpPr>
        <p:spPr>
          <a:xfrm>
            <a:off x="287280" y="1619280"/>
            <a:ext cx="511164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чок говорил протяжно, зву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голоса  ТАК(ЖЕ) изумил ме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5"/>
          <p:cNvSpPr/>
          <p:nvPr/>
        </p:nvSpPr>
        <p:spPr>
          <a:xfrm>
            <a:off x="287280" y="2879640"/>
            <a:ext cx="511164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а учится в университете,  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(ЖЕ)  хочу поступить т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287280" y="4140360"/>
            <a:ext cx="511164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мы ни делали, мы всег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в ответе за свою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7"/>
          <p:cNvSpPr/>
          <p:nvPr/>
        </p:nvSpPr>
        <p:spPr>
          <a:xfrm>
            <a:off x="287280" y="5400720"/>
            <a:ext cx="511164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укрепить здоровье, нуж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заниматься физкульту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9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0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1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607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607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17"/>
          <p:cNvSpPr/>
          <p:nvPr/>
        </p:nvSpPr>
        <p:spPr>
          <a:xfrm>
            <a:off x="395280" y="5292720"/>
            <a:ext cx="4608360" cy="61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Print"/>
              </a:rPr>
              <a:t>Работа над ошиб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1"/>
          <p:cNvSpPr/>
          <p:nvPr/>
        </p:nvSpPr>
        <p:spPr>
          <a:xfrm>
            <a:off x="2131200" y="324000"/>
            <a:ext cx="50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Segoe Print"/>
              </a:rPr>
              <a:t>Использованные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2"/>
          <p:cNvSpPr/>
          <p:nvPr/>
        </p:nvSpPr>
        <p:spPr>
          <a:xfrm>
            <a:off x="228600" y="828720"/>
            <a:ext cx="8381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 теста – Захарова Т.А., Байдакова Т.Б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.  </a:t>
            </a:r>
            <a:r>
              <a:rPr b="0" lang="ru-RU" sz="1800" spc="-1" strike="noStrike" u="sng">
                <a:solidFill>
                  <a:srgbClr val="6600cc"/>
                </a:solidFill>
                <a:uFillTx/>
                <a:latin typeface="Times New Roman"/>
                <a:ea typeface="Times New Roman"/>
              </a:rPr>
              <a:t>http://www.it-n.ru/board.aspx?cat_no=2168&amp;tmpl=Thread&amp;BoardId=2170&amp;ThreadId=119903&amp;page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  презентации – Лузгина Н.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е  мальчика-карандаш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rybinsk-biblioteka.ru/images/stories/foto/filials/cdb/news_cdb/2014/ava_samodelkin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е  тет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content.mycutegraphics.com/graphics/school/yellow-spiral-notebook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мат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ыборка из заданий ЕГЭ (задание 13) сайта «РЕШУ ЕГЭ»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rus.reshuege.ru/test?a=catlistws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огданова Г.А. Уроки русского языка в 7 классе. Книга для учителя. М., Просвещение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3"/>
          <p:cNvSpPr/>
          <p:nvPr/>
        </p:nvSpPr>
        <p:spPr>
          <a:xfrm>
            <a:off x="291960" y="4716360"/>
            <a:ext cx="500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згина Наталья Григо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СОШ № 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Златоуста  Челябин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7">
            <a:hlinkClick r:id="rId2" action="ppaction://hlinksldjump"/>
          </p:cNvPr>
          <p:cNvSpPr/>
          <p:nvPr/>
        </p:nvSpPr>
        <p:spPr>
          <a:xfrm>
            <a:off x="3060720" y="6095880"/>
            <a:ext cx="2951280" cy="468360"/>
          </a:xfrm>
          <a:prstGeom prst="rect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Segoe Print"/>
                <a:ea typeface="Calibri"/>
              </a:rPr>
              <a:t>Начина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AutoShape 4"/>
          <p:cNvSpPr/>
          <p:nvPr/>
        </p:nvSpPr>
        <p:spPr>
          <a:xfrm>
            <a:off x="287280" y="1619280"/>
            <a:ext cx="49690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заботилась о раненых Т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ЖЕ) нежно, как и о своих де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0"/>
          <p:cNvSpPr/>
          <p:nvPr/>
        </p:nvSpPr>
        <p:spPr>
          <a:xfrm>
            <a:off x="287280" y="2879640"/>
            <a:ext cx="49690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и спутники ТО(ЖЕ)  осмотр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 берег,  но  ничего не наш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1"/>
          <p:cNvSpPr/>
          <p:nvPr/>
        </p:nvSpPr>
        <p:spPr>
          <a:xfrm>
            <a:off x="287280" y="4140360"/>
            <a:ext cx="496908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 я делал  без помощ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2"/>
          <p:cNvSpPr/>
          <p:nvPr/>
        </p:nvSpPr>
        <p:spPr>
          <a:xfrm>
            <a:off x="287280" y="5400720"/>
            <a:ext cx="49690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если ему  (ТО)ЖЕ,  что 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ребя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6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7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4"/>
          <p:cNvSpPr/>
          <p:nvPr/>
        </p:nvSpPr>
        <p:spPr>
          <a:xfrm>
            <a:off x="287280" y="1619280"/>
            <a:ext cx="514836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 повторил одно и ТО(Ж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 несколько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5"/>
          <p:cNvSpPr/>
          <p:nvPr/>
        </p:nvSpPr>
        <p:spPr>
          <a:xfrm>
            <a:off x="287280" y="2879640"/>
            <a:ext cx="5148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хотел,  ЧТО(БЫ)  все подчин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ь  его коман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6"/>
          <p:cNvSpPr/>
          <p:nvPr/>
        </p:nvSpPr>
        <p:spPr>
          <a:xfrm>
            <a:off x="287280" y="4140360"/>
            <a:ext cx="514836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кнула молния,  ЗА (ТЕМ)  п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ышался удар гр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7"/>
          <p:cNvSpPr/>
          <p:nvPr/>
        </p:nvSpPr>
        <p:spPr>
          <a:xfrm>
            <a:off x="287280" y="5400720"/>
            <a:ext cx="5148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ьяна улыбалась редко, ЗА(Т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ё улыбка всегда пораж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9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0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35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AutoShape 4"/>
          <p:cNvSpPr/>
          <p:nvPr/>
        </p:nvSpPr>
        <p:spPr>
          <a:xfrm>
            <a:off x="287280" y="1619280"/>
            <a:ext cx="489600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еан шумел  ТАК(ЖЕ),  как 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нуне вече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5"/>
          <p:cNvSpPr/>
          <p:nvPr/>
        </p:nvSpPr>
        <p:spPr>
          <a:xfrm>
            <a:off x="287280" y="2879640"/>
            <a:ext cx="489600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 я  ни  делала,  у мен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чего не получа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6"/>
          <p:cNvSpPr/>
          <p:nvPr/>
        </p:nvSpPr>
        <p:spPr>
          <a:xfrm>
            <a:off x="287280" y="4140360"/>
            <a:ext cx="489600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й эту задачу  ТАК(ЖЕ), 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 ребя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7"/>
          <p:cNvSpPr/>
          <p:nvPr/>
        </p:nvSpPr>
        <p:spPr>
          <a:xfrm>
            <a:off x="287280" y="5400720"/>
            <a:ext cx="489600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хотела,  ЧТО(БЫ)  мы вмес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хали на экскурс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9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AutoShape 4"/>
          <p:cNvSpPr/>
          <p:nvPr/>
        </p:nvSpPr>
        <p:spPr>
          <a:xfrm>
            <a:off x="287280" y="1619280"/>
            <a:ext cx="504036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я ТО(ЖЕ) упорно тренировал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я,  готовясь к соревно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5"/>
          <p:cNvSpPr/>
          <p:nvPr/>
        </p:nvSpPr>
        <p:spPr>
          <a:xfrm>
            <a:off x="287280" y="2879640"/>
            <a:ext cx="5040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е прозвали так (ЗА)ТО,  что 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верт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287280" y="4140360"/>
            <a:ext cx="504036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логу  очень хотелось, ЧТО(БЫ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 пошло по пл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287280" y="5400720"/>
            <a:ext cx="5040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ищ обиделся,  (ПО)ЭТОМ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рное, не придет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0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AutoShape 4"/>
          <p:cNvSpPr/>
          <p:nvPr/>
        </p:nvSpPr>
        <p:spPr>
          <a:xfrm>
            <a:off x="287280" y="1619280"/>
            <a:ext cx="504036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егин  «бранил Гомера, Феокр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, ЗА(ТО) читал Адама Смит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5"/>
          <p:cNvSpPr/>
          <p:nvPr/>
        </p:nvSpPr>
        <p:spPr>
          <a:xfrm>
            <a:off x="287280" y="2879640"/>
            <a:ext cx="5040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(ТОМУ), что говорил дед, я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, что Витька сдержал сло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6"/>
          <p:cNvSpPr/>
          <p:nvPr/>
        </p:nvSpPr>
        <p:spPr>
          <a:xfrm>
            <a:off x="287280" y="4140360"/>
            <a:ext cx="504036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ая вода для растений —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Е) самое, что для нас любов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7"/>
          <p:cNvSpPr/>
          <p:nvPr/>
        </p:nvSpPr>
        <p:spPr>
          <a:xfrm>
            <a:off x="287280" y="5400720"/>
            <a:ext cx="5040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 ни случилось,  Серг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вит товарища в бе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4"/>
          <p:cNvSpPr/>
          <p:nvPr/>
        </p:nvSpPr>
        <p:spPr>
          <a:xfrm>
            <a:off x="395280" y="1619280"/>
            <a:ext cx="486108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 шагнул вперед,  я  ТО(Ж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л один ш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5"/>
          <p:cNvSpPr/>
          <p:nvPr/>
        </p:nvSpPr>
        <p:spPr>
          <a:xfrm>
            <a:off x="395280" y="2879640"/>
            <a:ext cx="4861080" cy="82872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еловеке судят  (ПО)ТОМУ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н говорит и делает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6"/>
          <p:cNvSpPr/>
          <p:nvPr/>
        </p:nvSpPr>
        <p:spPr>
          <a:xfrm>
            <a:off x="395280" y="4140360"/>
            <a:ext cx="486108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благодарил друга  ЗА(ТО)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н выручил  мен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7"/>
          <p:cNvSpPr/>
          <p:nvPr/>
        </p:nvSpPr>
        <p:spPr>
          <a:xfrm>
            <a:off x="395280" y="5400720"/>
            <a:ext cx="48610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гу представить,  ЧТО(БЫ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 делал без компьютер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4"/>
          <p:cNvSpPr/>
          <p:nvPr/>
        </p:nvSpPr>
        <p:spPr>
          <a:xfrm>
            <a:off x="287280" y="1619280"/>
            <a:ext cx="496908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язь Андрей встал и подошё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кну,  ЧТО(БЫ)  отворить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5"/>
          <p:cNvSpPr/>
          <p:nvPr/>
        </p:nvSpPr>
        <p:spPr>
          <a:xfrm>
            <a:off x="287280" y="2879640"/>
            <a:ext cx="49690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 в городе ни случило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ька тут как т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6"/>
          <p:cNvSpPr/>
          <p:nvPr/>
        </p:nvSpPr>
        <p:spPr>
          <a:xfrm>
            <a:off x="287280" y="4140360"/>
            <a:ext cx="496908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авды язык суров,  ЗА(ТО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ша добр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7"/>
          <p:cNvSpPr/>
          <p:nvPr/>
        </p:nvSpPr>
        <p:spPr>
          <a:xfrm>
            <a:off x="287280" y="5400720"/>
            <a:ext cx="49690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я едва передвигал ноги,  Т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а  ТО(ЖЕ) ус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9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9:43:50Z</dcterms:created>
  <dc:creator>Toshiba</dc:creator>
  <dc:description/>
  <dc:language>en-US</dc:language>
  <cp:lastModifiedBy>fortuna</cp:lastModifiedBy>
  <dcterms:modified xsi:type="dcterms:W3CDTF">2015-04-03T20:58:44Z</dcterms:modified>
  <cp:revision>199</cp:revision>
  <dc:subject/>
  <dc:title>Правописание союз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